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56C-C2BF-493C-8D5E-955B068A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DDF-5AA3-4EF5-A8E8-3E2D3B25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29E-364A-4740-8ECC-D5EAE6E1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D08-53FB-45C5-AE0C-F0EEADA3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35BF-8056-40CA-8761-F3894BF6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1140-3B78-4784-910B-10CAB13D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2EC-C1D2-437B-8409-6CF45A0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0E16-2333-4CF9-96DD-F0012D5C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258-CC57-497D-ABA3-9386090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715E-6B3A-42A6-9686-DD560F2B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CCE0-829F-47BC-A8C0-1A41A1A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D15-AA8A-4F87-B09B-0156CD50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78A-7814-4C4B-933A-BF539F5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C5AF-9520-4D54-98F2-07E04A1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D885-F109-4CE8-BF89-F59F531C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CD1B-D715-4646-BEAB-0A2207BC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7775-9E41-4ACA-8985-6AC31640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B49-1829-4DF8-BFB7-0B11FDF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C05-E97E-4551-B1BF-7E0D14F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CAF-E557-41EA-BC51-78029F2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DF3-0C03-4CF5-9C0E-AB18E466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4C6-961B-47FD-9ABC-3AA1AF92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121-44F4-4A00-851E-F00AD16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52E-7436-4C35-92C8-7316183E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44E5-A4B9-4136-855A-25DF196CC8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3FA9-BC98-4B9C-B97B-C55671ED7B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library.ru/" TargetMode="External"/><Relationship Id="rId2" Type="http://schemas.openxmlformats.org/officeDocument/2006/relationships/hyperlink" Target="http://ilibrary.ru/" TargetMode="External"/><Relationship Id="rId3" Type="http://schemas.openxmlformats.org/officeDocument/2006/relationships/hyperlink" Target="http://ilibrary.ru/" TargetMode="External"/><Relationship Id="rId4" Type="http://schemas.openxmlformats.org/officeDocument/2006/relationships/hyperlink" Target="http://ilibrary.ru/" TargetMode="External"/><Relationship Id="rId5" Type="http://schemas.openxmlformats.org/officeDocument/2006/relationships/hyperlink" Target="http://ilibrary.ru/" TargetMode="External"/><Relationship Id="rId6" Type="http://schemas.openxmlformats.org/officeDocument/2006/relationships/hyperlink" Target="http://ilibrary.ru/" TargetMode="External"/><Relationship Id="rId7" Type="http://schemas.openxmlformats.org/officeDocument/2006/relationships/hyperlink" Target="http://ilibrary.ru/" TargetMode="External"/><Relationship Id="rId8" Type="http://schemas.openxmlformats.org/officeDocument/2006/relationships/hyperlink" Target="file:///SokotunMaria3.ppt" TargetMode="External"/><Relationship Id="rId9" Type="http://schemas.openxmlformats.org/officeDocument/2006/relationships/hyperlink" Target="file:///SokotunMaria3.ppt" TargetMode="External"/><Relationship Id="rId10" Type="http://schemas.openxmlformats.org/officeDocument/2006/relationships/hyperlink" Target="file:///SokotunMaria3.ppt" TargetMode="External"/><Relationship Id="rId11" Type="http://schemas.openxmlformats.org/officeDocument/2006/relationships/hyperlink" Target="file:///SokotunMaria3.ppt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okotunMaria3.ppt#2. &#1062;&#1077;&#1083;&#1100;: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149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112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6069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cc"/>
                </a:solidFill>
                <a:latin typeface="Tahoma"/>
              </a:rPr>
              <a:t>«Луч света в тёмном царстве. Могла ли спастись Катерина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92804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Автор: Александрова Люб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10 «а» класс, г.Сыктывка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7 учащихся 1 учащийся предложил уйти в монастыр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учащихся предложили вернуться к матер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предложили терпеть и молчать об изме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предложили бороться методами Кабаних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Использованные 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филактика суицидального поведения у детей и подростк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тодические рекомендации. Сыктывкар, 2002. Составитель Рожицина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й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ilibrary.r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     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www.kostyor.r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     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://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www.maly.r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лан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Ц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Опросник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Итоги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Используемые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твратить суицидальные настроения среди учащихся 10х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ытка найти решение из безвыход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росни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знать мнение учащихся, так ли безвыходна ситуация Катерины и кто виновен в её смер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1. Что в большей степени способствовало гибели Катерины? (выбрать не более одного пункта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ннее замужест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кровь (Кабаних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вольный муж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и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дничество Вар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Могла ли спастись Катерин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 (если «Да», то как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 (если «Нет», то почему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Итоги исследова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просе принимало участие 32 учащихся 10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Что в большей степени способствовало гибели Катерины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ние 13 чел. - 1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ннее замужество 3 чел. – 9,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кровь (Кабаниха) 16 чел. -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вольный муж 2 чел. – 8,1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ис 2 чел. – 6,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дничество Варвары 1 чел. – 3,1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 32 учащихся 25 человек (78,1 %) считал, что у Катерины не было возможности спастис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 7 учащихся 21,8 %, считало, что могла спастис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6:15:52Z</dcterms:created>
  <dc:creator>Администратор</dc:creator>
  <dc:description/>
  <dc:language>en-US</dc:language>
  <cp:lastModifiedBy>студент</cp:lastModifiedBy>
  <dcterms:modified xsi:type="dcterms:W3CDTF">2010-05-12T09:24:57Z</dcterms:modified>
  <cp:revision>7</cp:revision>
  <dc:subject/>
  <dc:title>PowerPoint Presentation</dc:title>
</cp:coreProperties>
</file>